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13E-F550-4A63-8DCE-BE9B0C7C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2ED-B6BE-49E3-A932-588488F5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AF41-AA79-433A-ABDB-BAE7EAD37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80C9-5911-47CD-AED8-3C9E72409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403-0F0D-43A0-B4A4-A82D12EA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5A2A-F7C6-4200-BCCB-E85881B4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3C5-6CBC-447A-A01E-21C371E0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73FF-A29A-4006-A119-E8019799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7D13-146F-43F2-A09B-6B9EC46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A1E-5045-445D-8525-FA64DAA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4EB-AD40-4C6D-B518-9B94C56A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040-CA25-417D-9F64-EA75C00D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BDF87-1DC0-4FF3-BBF5-39604BCC2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3080" y="0"/>
          <a:ext cx="6172200" cy="900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0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43080" y="142920"/>
          <a:ext cx="6172200" cy="900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42920"/>
                    <a:ext cx="6172200" cy="900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our</cp:lastModifiedBy>
  <dcterms:modified xsi:type="dcterms:W3CDTF">2009-03-11T08:51:2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